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4098A-28E9-4429-BECB-057E66F1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8AB57-ECA1-4F0F-BE23-2283BD1C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3218F-AD2A-4512-AFC7-C1CA0B46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FB684-1799-4EB6-96FD-55530F4D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028B0-86AE-4FD8-8DAE-B9206427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F28FE-8C05-4A5B-8D37-DC89E296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74E0E-95C4-4B33-B00B-58876A74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48F23-7034-4A21-AAE3-6CB1D4CC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879C7-FDAE-4BD8-8836-F916B891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80F52-427D-40D8-ACC7-41F23D41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BFF27-0E5D-4D12-82CB-65C8E521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C5C74-A942-4B4F-942C-873461F4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749D7-A85F-4F31-BA8E-3D3F7116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A9A9E-FDA1-46FB-9598-1FF7E691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B2F9C-0E98-470E-9EC3-ECBB143E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FAED0-28E4-412D-B595-5C99E92F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071FE-804C-4207-AD9D-D1797E64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CC017-F75F-4D71-8062-EABF78CB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22CC5-B1C7-4348-8FBB-A64BBC1D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B8869-FA27-432F-8200-8E300088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D09D0-4D2F-4DE9-83D5-D892BF6B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0CF93-9A45-43F6-84D1-B3B58E12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1DBF4-508B-41EF-8548-43503417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EE62D-B3D1-4B4C-961F-F819CE10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69B763-0722-4521-81C1-E253E1FE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32A4E6-614D-41B7-BAD4-23E498B8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338001-5170-464D-B8A7-62FC9C53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C67896-7AAA-4803-879F-C90E2874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5D8703-F388-4F86-825F-808A0D7C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B85AB7-E545-489F-B6C3-9F76FE67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FBDD48-FCB1-4579-ADB1-EFDC5C35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2CD388-E5E2-46AD-B6C0-4EDEB8FD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233C57-9FA6-440A-A70A-E1496819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FD9A43-F1EF-4C3C-A0F3-85CB7E52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F142CF-2C21-4B23-939C-E22AA6DF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C51B6E-A2C0-48E8-B506-EB7577AF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18DDC1-5E18-421E-800A-E8B14F14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DC15F-E48E-48BC-87B1-B0DFBCE4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725FE-AEFF-4360-A1A0-6C666510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CEEE9C-A4C7-48CD-9D11-720121F6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2F4F2B-03D3-47CD-BF81-36C3720A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28B0C9-B55D-4A1C-99D2-53B86D3F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675F75-73E0-4A44-B644-1A347F49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AC49C7-E92D-4CF0-B24B-09F08A35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1D7CFF-F02B-4011-A652-E7948F06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DF6D5A-225B-47D3-B5B4-B4B13B37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2B1759-04CF-4988-8321-1DB2AF31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0A9CD7-3E7A-4A7E-9349-A1D5D8F5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77C2-6C0C-490E-85D6-4BEE054D0889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7226-DB34-4378-ABEE-9D3603C2FF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423D-1299-43F6-9FFF-FFCC99C69D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9A65-0056-4417-9F42-FE78FAEB66D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5B76-03B9-44BC-A527-25543A8B617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3999-A6DC-4E0B-86D1-0E3A7360C0C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DFB4-3572-4F60-A56F-AEF6E222E28A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17654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gegneria del Web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Realizzare WS con ECLIPSE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 AXIS 2 su TOMCAT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sercitazione N°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7812000" y="1413000"/>
            <a:ext cx="13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aricare ECLIPSE NE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Immagine 5" descr=""/>
          <p:cNvPicPr/>
          <p:nvPr/>
        </p:nvPicPr>
        <p:blipFill>
          <a:blip r:embed="rId1"/>
          <a:stretch/>
        </p:blipFill>
        <p:spPr>
          <a:xfrm>
            <a:off x="1521000" y="1417680"/>
            <a:ext cx="69055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tegrare i Runtime Environments nell’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Immagine 5" descr=""/>
          <p:cNvPicPr/>
          <p:nvPr/>
        </p:nvPicPr>
        <p:blipFill>
          <a:blip r:embed="rId1"/>
          <a:stretch/>
        </p:blipFill>
        <p:spPr>
          <a:xfrm>
            <a:off x="1042920" y="1603440"/>
            <a:ext cx="788688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ggiungere TOMCAT 8.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Immagine 5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8026200" cy="4727880"/>
          </a:xfrm>
          <a:prstGeom prst="rect">
            <a:avLst/>
          </a:prstGeom>
          <a:ln w="0">
            <a:noFill/>
          </a:ln>
        </p:spPr>
      </p:pic>
      <p:sp>
        <p:nvSpPr>
          <p:cNvPr id="338" name="Ovale 6"/>
          <p:cNvSpPr/>
          <p:nvPr/>
        </p:nvSpPr>
        <p:spPr>
          <a:xfrm>
            <a:off x="6443640" y="5013360"/>
            <a:ext cx="93672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pecificare la cartella di installazione di TOMC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Immagine 5" descr=""/>
          <p:cNvPicPr/>
          <p:nvPr/>
        </p:nvPicPr>
        <p:blipFill>
          <a:blip r:embed="rId1"/>
          <a:stretch/>
        </p:blipFill>
        <p:spPr>
          <a:xfrm>
            <a:off x="1523880" y="1700280"/>
            <a:ext cx="6883560" cy="4402080"/>
          </a:xfrm>
          <a:prstGeom prst="rect">
            <a:avLst/>
          </a:prstGeom>
          <a:ln w="0">
            <a:noFill/>
          </a:ln>
        </p:spPr>
      </p:pic>
      <p:sp>
        <p:nvSpPr>
          <p:cNvPr id="343" name="Ovale 6"/>
          <p:cNvSpPr/>
          <p:nvPr/>
        </p:nvSpPr>
        <p:spPr>
          <a:xfrm>
            <a:off x="6732720" y="5229360"/>
            <a:ext cx="86364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giungere AXIS2, specificando la cartella che contiene il file axis2.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magine 6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712764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un nuovo Dynamic Web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magine 5" descr=""/>
          <p:cNvPicPr/>
          <p:nvPr/>
        </p:nvPicPr>
        <p:blipFill>
          <a:blip r:embed="rId1"/>
          <a:stretch/>
        </p:blipFill>
        <p:spPr>
          <a:xfrm>
            <a:off x="2054160" y="1517760"/>
            <a:ext cx="554220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are un nome al progetto, scegliere la versione 2.5 per Dynamic Web Module e modificare la Config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Immagine 5" descr=""/>
          <p:cNvPicPr/>
          <p:nvPr/>
        </p:nvPicPr>
        <p:blipFill>
          <a:blip r:embed="rId1"/>
          <a:stretch/>
        </p:blipFill>
        <p:spPr>
          <a:xfrm>
            <a:off x="2884320" y="1557360"/>
            <a:ext cx="3919680" cy="4632480"/>
          </a:xfrm>
          <a:prstGeom prst="rect">
            <a:avLst/>
          </a:prstGeom>
          <a:ln w="0">
            <a:noFill/>
          </a:ln>
        </p:spPr>
      </p:pic>
      <p:sp>
        <p:nvSpPr>
          <p:cNvPr id="356" name="Ovale 6"/>
          <p:cNvSpPr/>
          <p:nvPr/>
        </p:nvSpPr>
        <p:spPr>
          <a:xfrm>
            <a:off x="6019920" y="3716280"/>
            <a:ext cx="78408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e 7"/>
          <p:cNvSpPr/>
          <p:nvPr/>
        </p:nvSpPr>
        <p:spPr>
          <a:xfrm>
            <a:off x="2884320" y="3284640"/>
            <a:ext cx="14004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e 8"/>
          <p:cNvSpPr/>
          <p:nvPr/>
        </p:nvSpPr>
        <p:spPr>
          <a:xfrm>
            <a:off x="2884320" y="2205000"/>
            <a:ext cx="13273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egliere AXIS2 nei Project Fac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magine 5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5678640" cy="4767120"/>
          </a:xfrm>
          <a:prstGeom prst="rect">
            <a:avLst/>
          </a:prstGeom>
          <a:ln w="0">
            <a:noFill/>
          </a:ln>
        </p:spPr>
      </p:pic>
      <p:sp>
        <p:nvSpPr>
          <p:cNvPr id="363" name="Ovale 6"/>
          <p:cNvSpPr/>
          <p:nvPr/>
        </p:nvSpPr>
        <p:spPr>
          <a:xfrm>
            <a:off x="2124000" y="2421000"/>
            <a:ext cx="136836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ggiungere una classe al progetto WebService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magine 5" descr=""/>
          <p:cNvPicPr/>
          <p:nvPr/>
        </p:nvPicPr>
        <p:blipFill>
          <a:blip r:embed="rId1"/>
          <a:stretch/>
        </p:blipFill>
        <p:spPr>
          <a:xfrm>
            <a:off x="1198440" y="1643040"/>
            <a:ext cx="7694640" cy="4665600"/>
          </a:xfrm>
          <a:prstGeom prst="rect">
            <a:avLst/>
          </a:prstGeom>
          <a:ln w="0">
            <a:noFill/>
          </a:ln>
        </p:spPr>
      </p:pic>
      <p:sp>
        <p:nvSpPr>
          <p:cNvPr id="368" name="CasellaDiTesto 7"/>
          <p:cNvSpPr/>
          <p:nvPr/>
        </p:nvSpPr>
        <p:spPr>
          <a:xfrm>
            <a:off x="1258920" y="2997360"/>
            <a:ext cx="3600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lezionare File-&gt;New-&gt;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Connettore 2 9"/>
          <p:cNvCxnSpPr/>
          <p:nvPr/>
        </p:nvCxnSpPr>
        <p:spPr>
          <a:xfrm flipH="1" flipV="1">
            <a:off x="1402920" y="1915560"/>
            <a:ext cx="1874160" cy="1081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70" name="Ovale 15"/>
          <p:cNvSpPr/>
          <p:nvPr/>
        </p:nvSpPr>
        <p:spPr>
          <a:xfrm>
            <a:off x="5292720" y="3789360"/>
            <a:ext cx="93492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are un nome alla classe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(stesso nome del Progetto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Immagine 5" descr=""/>
          <p:cNvPicPr/>
          <p:nvPr/>
        </p:nvPicPr>
        <p:blipFill>
          <a:blip r:embed="rId1"/>
          <a:stretch/>
        </p:blipFill>
        <p:spPr>
          <a:xfrm>
            <a:off x="2668680" y="1490760"/>
            <a:ext cx="391932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egnaposto piè di pagina 4"/>
          <p:cNvSpPr/>
          <p:nvPr/>
        </p:nvSpPr>
        <p:spPr>
          <a:xfrm>
            <a:off x="3124080" y="62452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Ingegneria del 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Somma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dremo come realizzare Web Services usando l’IDE Eclipse per J2EE, integrando al suo interno l’ambiente di sviluppo per WS AXIS2 e l’ambiente di runtime TOMCAT come Web Application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rivere il codice della clas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Immagine 6" descr=""/>
          <p:cNvPicPr/>
          <p:nvPr/>
        </p:nvPicPr>
        <p:blipFill>
          <a:blip r:embed="rId1"/>
          <a:stretch/>
        </p:blipFill>
        <p:spPr>
          <a:xfrm>
            <a:off x="1042920" y="1189080"/>
            <a:ext cx="79218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il WS dalla clas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magine 5" descr=""/>
          <p:cNvPicPr/>
          <p:nvPr/>
        </p:nvPicPr>
        <p:blipFill>
          <a:blip r:embed="rId1"/>
          <a:stretch/>
        </p:blipFill>
        <p:spPr>
          <a:xfrm>
            <a:off x="1703520" y="1197000"/>
            <a:ext cx="6715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nfigurare il 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Immagine 5" descr=""/>
          <p:cNvPicPr/>
          <p:nvPr/>
        </p:nvPicPr>
        <p:blipFill>
          <a:blip r:embed="rId1"/>
          <a:stretch/>
        </p:blipFill>
        <p:spPr>
          <a:xfrm>
            <a:off x="1068480" y="1220760"/>
            <a:ext cx="7751520" cy="4897440"/>
          </a:xfrm>
          <a:prstGeom prst="rect">
            <a:avLst/>
          </a:prstGeom>
          <a:ln w="0">
            <a:noFill/>
          </a:ln>
        </p:spPr>
      </p:pic>
      <p:cxnSp>
        <p:nvCxnSpPr>
          <p:cNvPr id="387" name="Connettore 2 7"/>
          <p:cNvCxnSpPr/>
          <p:nvPr/>
        </p:nvCxnSpPr>
        <p:spPr>
          <a:xfrm flipH="1" flipV="1">
            <a:off x="7251120" y="2852280"/>
            <a:ext cx="416520" cy="1224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88" name="CasellaDiTesto 11"/>
          <p:cNvSpPr/>
          <p:nvPr/>
        </p:nvSpPr>
        <p:spPr>
          <a:xfrm>
            <a:off x="6516720" y="4076640"/>
            <a:ext cx="20876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enzione: cambiare Apache Axis in Axi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Service Deployment Configu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Immagine 5" descr=""/>
          <p:cNvPicPr/>
          <p:nvPr/>
        </p:nvPicPr>
        <p:blipFill>
          <a:blip r:embed="rId1"/>
          <a:stretch/>
        </p:blipFill>
        <p:spPr>
          <a:xfrm>
            <a:off x="2087640" y="1527120"/>
            <a:ext cx="52210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eb  Service Java Bean Configu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Immagine 6" descr=""/>
          <p:cNvPicPr/>
          <p:nvPr/>
        </p:nvPicPr>
        <p:blipFill>
          <a:blip r:embed="rId1"/>
          <a:stretch/>
        </p:blipFill>
        <p:spPr>
          <a:xfrm>
            <a:off x="1289160" y="1593720"/>
            <a:ext cx="73152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vviare il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Immagine 5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76764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roblema frequen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per caso avevate già avviato Tomcat prima di lanciare Eclipse, si genererà un errore dovuto al fatto che le porte del server (generalmente la 8080, la 8005 e la 8009 rispettivament per l’ascolto HTTP, per lo startup e per lo shutdown) sono già occup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ccorrerà che chiudiate il programma di «monitor» di Tomcat (facendo exit, non basta lo stop del server) e dovrete cambiare le porte del server in ECLI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vrete editare in Eclipse il file server.xml e cambiare i numeri delle porte (es. 8080 in 808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ambiare le porte in ECLIP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Immagine 5" descr=""/>
          <p:cNvPicPr/>
          <p:nvPr/>
        </p:nvPicPr>
        <p:blipFill>
          <a:blip r:embed="rId1"/>
          <a:stretch/>
        </p:blipFill>
        <p:spPr>
          <a:xfrm>
            <a:off x="1392120" y="1417680"/>
            <a:ext cx="7547040" cy="4773600"/>
          </a:xfrm>
          <a:prstGeom prst="rect">
            <a:avLst/>
          </a:prstGeom>
          <a:ln w="0">
            <a:noFill/>
          </a:ln>
        </p:spPr>
      </p:pic>
      <p:sp>
        <p:nvSpPr>
          <p:cNvPr id="409" name="Ovale 6"/>
          <p:cNvSpPr/>
          <p:nvPr/>
        </p:nvSpPr>
        <p:spPr>
          <a:xfrm>
            <a:off x="1835280" y="2997360"/>
            <a:ext cx="86508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e 7"/>
          <p:cNvSpPr/>
          <p:nvPr/>
        </p:nvSpPr>
        <p:spPr>
          <a:xfrm>
            <a:off x="7380360" y="4869000"/>
            <a:ext cx="431640" cy="14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ebService1 avvia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Immagine 5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77708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 tutto è andato a buon fine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Immagine 5" descr=""/>
          <p:cNvPicPr/>
          <p:nvPr/>
        </p:nvPicPr>
        <p:blipFill>
          <a:blip r:embed="rId1"/>
          <a:stretch/>
        </p:blipFill>
        <p:spPr>
          <a:xfrm>
            <a:off x="1176480" y="1417680"/>
            <a:ext cx="7643520" cy="4827600"/>
          </a:xfrm>
          <a:prstGeom prst="rect">
            <a:avLst/>
          </a:prstGeom>
          <a:ln w="0">
            <a:noFill/>
          </a:ln>
        </p:spPr>
      </p:pic>
      <p:sp>
        <p:nvSpPr>
          <p:cNvPr id="419" name="CasellaDiTesto 6"/>
          <p:cNvSpPr/>
          <p:nvPr/>
        </p:nvSpPr>
        <p:spPr>
          <a:xfrm>
            <a:off x="4572000" y="2852640"/>
            <a:ext cx="3456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iccare qui per visualizzare il WSDL del serv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Connettore 2 8"/>
          <p:cNvCxnSpPr>
            <a:stCxn id="419" idx="1"/>
          </p:cNvCxnSpPr>
          <p:nvPr/>
        </p:nvCxnSpPr>
        <p:spPr>
          <a:xfrm flipH="1">
            <a:off x="2123640" y="3176640"/>
            <a:ext cx="2448720" cy="1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OMC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ache Tomcat</a:t>
            </a:r>
            <a:r>
              <a:rPr b="0" lang="it-IT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è un’implementazione open source delle tecnologie Java Servlet, JavaServer Pages, Java Expression Language e Java WebSocket techn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ornisce un ambiente di runtime per Web server e Web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16000" y="-235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SDL generato – Tipi di d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CasellaDiTesto 7"/>
          <p:cNvSpPr/>
          <p:nvPr/>
        </p:nvSpPr>
        <p:spPr>
          <a:xfrm>
            <a:off x="108000" y="549360"/>
            <a:ext cx="8928000" cy="584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definitions xmlns:wsdl="http://schemas.xmlsoap.org/wsdl/" xmlns:ns="http://domenicorosaci.it" xmlns:wsaw="http://www.w3.org/2006/05/addressing/wsdl" xmlns:mime="http://schemas.xmlsoap.org/wsdl/mime/"xmlns:http="http://schemas.xmlsoap.org/wsdl/http/" xmlns:xs="http://www.w3.org/2001/XMLSchema" xmlns:soap12="http://schemas.xmlsoap.org/wsdl/soap12/" xmlns:ns1="http://org.apache.axis2/xsd"xmlns:soap="http://schemas.xmlsoap.org/wsdl/soap/" targetNamespace="http://domenicorosaci.it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documentation&gt;Please Type your service description here&lt;/wsdl:documenta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type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schema attributeFormDefault="qualified" elementFormDefault="qualified" targetNamespace="http://domenicorosaci.it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element name="somma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element name="a" type="xs:in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element name="b" type="xs:in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element name="sommaRespons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xs:element name="return" type="xs:in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type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16000" y="-235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SDL generato – Primo bi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CasellaDiTesto 7"/>
          <p:cNvSpPr/>
          <p:nvPr/>
        </p:nvSpPr>
        <p:spPr>
          <a:xfrm>
            <a:off x="108000" y="549360"/>
            <a:ext cx="8928000" cy="26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binding name="WebService1Soap11Binding" type="ns:WebService1PortTyp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:binding transport="http://schemas.xmlsoap.org/soap/http" style="documen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peration name="somma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:operation soapAction="urn:somma" style="documen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in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:body use="literal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in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ut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:body use="literal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out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opera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bindin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16000" y="-235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SDL generato – Secondo bi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CasellaDiTesto 7"/>
          <p:cNvSpPr/>
          <p:nvPr/>
        </p:nvSpPr>
        <p:spPr>
          <a:xfrm>
            <a:off x="108000" y="549360"/>
            <a:ext cx="8928000" cy="26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binding name="WebService1Soap12Binding" type="ns:WebService1PortTyp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12:binding transport="http://schemas.xmlsoap.org/soap/http" style="documen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peration name="somma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12:operation soapAction="urn:somma" style="documen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in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12:body use="literal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in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ut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12:body use="literal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out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opera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bindin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16000" y="-235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SDL generato – Terzo bi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CasellaDiTesto 7"/>
          <p:cNvSpPr/>
          <p:nvPr/>
        </p:nvSpPr>
        <p:spPr>
          <a:xfrm>
            <a:off x="108000" y="549360"/>
            <a:ext cx="8928000" cy="26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binding name="WebService1HttpBinding" type="ns:WebService1PortTyp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http:binding verb="POS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peration name="somma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http:operation location="somma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in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mime:content type="application/xml" part="parameter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in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ut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mime:content type="application/xml" part="parameter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out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opera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bindin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16000" y="-235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SDL generato –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CasellaDiTesto 7"/>
          <p:cNvSpPr/>
          <p:nvPr/>
        </p:nvSpPr>
        <p:spPr>
          <a:xfrm>
            <a:off x="108000" y="549360"/>
            <a:ext cx="8928000" cy="32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service name="WebService1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port name="WebService1HttpSoap11Endpoint" binding="ns:WebService1Soap11Binding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:address location="http://localhost:8081/WebService1/services/WebService1.WebService1HttpSoap11Endpoint/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po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port name="WebService1HttpSoap12Endpoint" binding="ns:WebService1Soap12Binding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soap12:address location="http://localhost:8081/WebService1/services/WebService1.WebService1HttpSoap12Endpoint/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po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port name="WebService1HttpEndpoint" binding="ns:WebService1HttpBinding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http:address location="http://localhost:8081/WebService1/services/WebService1.WebService1HttpEndpoint/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po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servi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definition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16000" y="-235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SDL generato -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CasellaDiTesto 7"/>
          <p:cNvSpPr/>
          <p:nvPr/>
        </p:nvSpPr>
        <p:spPr>
          <a:xfrm>
            <a:off x="108000" y="549360"/>
            <a:ext cx="8928000" cy="286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message name="sommaRequest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part name="parameters" element="ns:somma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messag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message name="sommaRespons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part name="parameters" element="ns:sommaResponse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messag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portType name="WebService1PortTyp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peration name="somma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input message="ns:sommaRequest" wsaw:Action="urn:somma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wsdl:output message="ns:sommaResponse" wsaw:Action="urn:sommaResponse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opera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/wsdl:port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un archivio Ax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evitare di dovere usare Eclipse ogni volta che vogliamo lanciare il servizio, possiamo creare un archivio axis (file .aar) e renderlo disponibile sul Web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 questo scopo, andiamo nella cartella WebService1 in c:\users\username (dove username è il vostro account su Windows), da riga di com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enerare il file .a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Immagine 5" descr=""/>
          <p:cNvPicPr/>
          <p:nvPr/>
        </p:nvPicPr>
        <p:blipFill>
          <a:blip r:embed="rId1"/>
          <a:stretch/>
        </p:blipFill>
        <p:spPr>
          <a:xfrm>
            <a:off x="1055520" y="1405080"/>
            <a:ext cx="78645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Bloccare il Web Server su ECLIP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Immagine 5" descr=""/>
          <p:cNvPicPr/>
          <p:nvPr/>
        </p:nvPicPr>
        <p:blipFill>
          <a:blip r:embed="rId1"/>
          <a:stretch/>
        </p:blipFill>
        <p:spPr>
          <a:xfrm>
            <a:off x="1619280" y="1305000"/>
            <a:ext cx="6265800" cy="4932360"/>
          </a:xfrm>
          <a:prstGeom prst="rect">
            <a:avLst/>
          </a:prstGeom>
          <a:ln w="0">
            <a:noFill/>
          </a:ln>
        </p:spPr>
      </p:pic>
      <p:sp>
        <p:nvSpPr>
          <p:cNvPr id="457" name="Ovale 6"/>
          <p:cNvSpPr/>
          <p:nvPr/>
        </p:nvSpPr>
        <p:spPr>
          <a:xfrm>
            <a:off x="7236000" y="5229360"/>
            <a:ext cx="360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Connettore 2 8"/>
          <p:cNvCxnSpPr>
            <a:endCxn id="457" idx="1"/>
          </p:cNvCxnSpPr>
          <p:nvPr/>
        </p:nvCxnSpPr>
        <p:spPr>
          <a:xfrm>
            <a:off x="6732360" y="4581000"/>
            <a:ext cx="557640" cy="700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90440" y="2599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Copiare il file WebService1.aar nella cartella services di Axis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Immagine 8" descr=""/>
          <p:cNvPicPr/>
          <p:nvPr/>
        </p:nvPicPr>
        <p:blipFill>
          <a:blip r:embed="rId1"/>
          <a:stretch/>
        </p:blipFill>
        <p:spPr>
          <a:xfrm>
            <a:off x="1066680" y="1341360"/>
            <a:ext cx="7969320" cy="4900680"/>
          </a:xfrm>
          <a:prstGeom prst="rect">
            <a:avLst/>
          </a:prstGeom>
          <a:ln w="0">
            <a:noFill/>
          </a:ln>
        </p:spPr>
      </p:pic>
      <p:cxnSp>
        <p:nvCxnSpPr>
          <p:cNvPr id="463" name="Connettore 2 7"/>
          <p:cNvCxnSpPr/>
          <p:nvPr/>
        </p:nvCxnSpPr>
        <p:spPr>
          <a:xfrm>
            <a:off x="2268000" y="3500280"/>
            <a:ext cx="4033080" cy="650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ersione 8.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questa esercitazione scaricheremo dal sito tomcat.apache.org la binary distribution 8.5.6, sotto forma di installer per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bbiamo scelto questa versione perché non presenta particolari incompatibilità con l’IDE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edere il servizio sotto Axis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116000" y="1600200"/>
            <a:ext cx="7570800" cy="11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vviamo Tomcat dal programma monitor. Dovremmo vedere il servizio WebService1 tra i servizi di Axis2 (attenzione: la porta sarà la 80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Immagine 5" descr=""/>
          <p:cNvPicPr/>
          <p:nvPr/>
        </p:nvPicPr>
        <p:blipFill>
          <a:blip r:embed="rId1"/>
          <a:stretch/>
        </p:blipFill>
        <p:spPr>
          <a:xfrm>
            <a:off x="3192480" y="2523960"/>
            <a:ext cx="5411880" cy="35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enerare un client per WebService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Immagine 5" descr=""/>
          <p:cNvPicPr/>
          <p:nvPr/>
        </p:nvPicPr>
        <p:blipFill>
          <a:blip r:embed="rId1"/>
          <a:stretch/>
        </p:blipFill>
        <p:spPr>
          <a:xfrm>
            <a:off x="982800" y="1481040"/>
            <a:ext cx="7910280" cy="4764240"/>
          </a:xfrm>
          <a:prstGeom prst="rect">
            <a:avLst/>
          </a:prstGeom>
          <a:ln w="0">
            <a:noFill/>
          </a:ln>
        </p:spPr>
      </p:pic>
      <p:sp>
        <p:nvSpPr>
          <p:cNvPr id="473" name="CasellaDiTesto 6"/>
          <p:cNvSpPr/>
          <p:nvPr/>
        </p:nvSpPr>
        <p:spPr>
          <a:xfrm>
            <a:off x="2411280" y="3141720"/>
            <a:ext cx="2448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egl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le-&gt;New-&gt;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Connettore 2 8"/>
          <p:cNvCxnSpPr>
            <a:stCxn id="473" idx="0"/>
          </p:cNvCxnSpPr>
          <p:nvPr/>
        </p:nvCxnSpPr>
        <p:spPr>
          <a:xfrm flipH="1" flipV="1">
            <a:off x="1186920" y="1772640"/>
            <a:ext cx="2448720" cy="1369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nfigurazione del 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Immagine 5" descr=""/>
          <p:cNvPicPr/>
          <p:nvPr/>
        </p:nvPicPr>
        <p:blipFill>
          <a:blip r:embed="rId1"/>
          <a:stretch/>
        </p:blipFill>
        <p:spPr>
          <a:xfrm>
            <a:off x="1096920" y="1442880"/>
            <a:ext cx="7796160" cy="4802400"/>
          </a:xfrm>
          <a:prstGeom prst="rect">
            <a:avLst/>
          </a:prstGeom>
          <a:ln w="0">
            <a:noFill/>
          </a:ln>
        </p:spPr>
      </p:pic>
      <p:sp>
        <p:nvSpPr>
          <p:cNvPr id="479" name="CasellaDiTesto 6"/>
          <p:cNvSpPr/>
          <p:nvPr/>
        </p:nvSpPr>
        <p:spPr>
          <a:xfrm>
            <a:off x="2987640" y="429264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RI del WS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Connettore 2 8"/>
          <p:cNvCxnSpPr/>
          <p:nvPr/>
        </p:nvCxnSpPr>
        <p:spPr>
          <a:xfrm flipV="1">
            <a:off x="3995280" y="3499560"/>
            <a:ext cx="2025000" cy="793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81" name="Ovale 9"/>
          <p:cNvSpPr/>
          <p:nvPr/>
        </p:nvSpPr>
        <p:spPr>
          <a:xfrm>
            <a:off x="7093080" y="4292640"/>
            <a:ext cx="1655640" cy="14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enerazione dello Stub e del Callback Hand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nuove classi gener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ervice1Stub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ervice1CallbackHandler.ja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 generiamo una classe per testare il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Una classe per testare il cli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Immagine 5" descr=""/>
          <p:cNvPicPr/>
          <p:nvPr/>
        </p:nvPicPr>
        <p:blipFill>
          <a:blip r:embed="rId1"/>
          <a:stretch/>
        </p:blipFill>
        <p:spPr>
          <a:xfrm>
            <a:off x="2116080" y="1197000"/>
            <a:ext cx="5840640" cy="5011560"/>
          </a:xfrm>
          <a:prstGeom prst="rect">
            <a:avLst/>
          </a:prstGeom>
          <a:ln w="0">
            <a:noFill/>
          </a:ln>
        </p:spPr>
      </p:pic>
      <p:sp>
        <p:nvSpPr>
          <p:cNvPr id="490" name="Ovale 6"/>
          <p:cNvSpPr/>
          <p:nvPr/>
        </p:nvSpPr>
        <p:spPr>
          <a:xfrm>
            <a:off x="4067280" y="5877000"/>
            <a:ext cx="649080" cy="331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CasellaDiTesto 7"/>
          <p:cNvSpPr/>
          <p:nvPr/>
        </p:nvSpPr>
        <p:spPr>
          <a:xfrm>
            <a:off x="4859280" y="443700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guire come normale Java Application. Ecco il risul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2" name="Connettore 2 9"/>
          <p:cNvCxnSpPr>
            <a:endCxn id="490" idx="7"/>
          </p:cNvCxnSpPr>
          <p:nvPr/>
        </p:nvCxnSpPr>
        <p:spPr>
          <a:xfrm flipH="1">
            <a:off x="4620600" y="5360760"/>
            <a:ext cx="1246680" cy="565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16000" y="-100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OMCAT Insta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egnaposto piè di pagina 4"/>
          <p:cNvSpPr/>
          <p:nvPr/>
        </p:nvSpPr>
        <p:spPr>
          <a:xfrm>
            <a:off x="3124080" y="6265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Immagine 5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7848720" cy="5337360"/>
          </a:xfrm>
          <a:prstGeom prst="rect">
            <a:avLst/>
          </a:prstGeom>
          <a:ln w="0">
            <a:noFill/>
          </a:ln>
        </p:spPr>
      </p:pic>
      <p:cxnSp>
        <p:nvCxnSpPr>
          <p:cNvPr id="305" name="Connettore 2 7"/>
          <p:cNvCxnSpPr/>
          <p:nvPr/>
        </p:nvCxnSpPr>
        <p:spPr>
          <a:xfrm flipH="1">
            <a:off x="3850560" y="5157720"/>
            <a:ext cx="1081800" cy="504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6" name="Rettangolo 8"/>
          <p:cNvSpPr/>
          <p:nvPr/>
        </p:nvSpPr>
        <p:spPr>
          <a:xfrm>
            <a:off x="1116000" y="3141720"/>
            <a:ext cx="863640" cy="142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XIS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che Axis2 è un Web Services / SOAP / WSDL engine, successore dell’ambiente AXIS. Esistono due implementazioni di Apache Axis2 Web services engine: Apache Axis2/Java and Apache Axis2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 utilizzeremo Axis2/Java, nella versione 1.6.4 di inizio 2016, sempre perché non presnta incompatibilità con ECLI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16000" y="-2736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XIS2 1.6.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Immagine 7" descr=""/>
          <p:cNvPicPr/>
          <p:nvPr/>
        </p:nvPicPr>
        <p:blipFill>
          <a:blip r:embed="rId1"/>
          <a:stretch/>
        </p:blipFill>
        <p:spPr>
          <a:xfrm>
            <a:off x="1795320" y="960480"/>
            <a:ext cx="6232680" cy="5211720"/>
          </a:xfrm>
          <a:prstGeom prst="rect">
            <a:avLst/>
          </a:prstGeom>
          <a:ln w="0">
            <a:noFill/>
          </a:ln>
        </p:spPr>
      </p:pic>
      <p:sp>
        <p:nvSpPr>
          <p:cNvPr id="315" name="Rettangolo 8"/>
          <p:cNvSpPr/>
          <p:nvPr/>
        </p:nvSpPr>
        <p:spPr>
          <a:xfrm>
            <a:off x="1795320" y="4797360"/>
            <a:ext cx="35686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16000" y="-1004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aricare la war distrib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Immagine 5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680520" cy="5131080"/>
          </a:xfrm>
          <a:prstGeom prst="rect">
            <a:avLst/>
          </a:prstGeom>
          <a:ln w="0">
            <a:noFill/>
          </a:ln>
        </p:spPr>
      </p:pic>
      <p:sp>
        <p:nvSpPr>
          <p:cNvPr id="320" name="Rettangolo 6"/>
          <p:cNvSpPr/>
          <p:nvPr/>
        </p:nvSpPr>
        <p:spPr>
          <a:xfrm>
            <a:off x="1547640" y="4149720"/>
            <a:ext cx="17290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stallare AXIS su TOMC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116000" y="1599840"/>
            <a:ext cx="7570800" cy="67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file axis2.war contenuto nello zip va semplicemente estratto all’interno della cartella webapps di TOM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Immagine 5" descr=""/>
          <p:cNvPicPr/>
          <p:nvPr/>
        </p:nvPicPr>
        <p:blipFill>
          <a:blip r:embed="rId1"/>
          <a:stretch/>
        </p:blipFill>
        <p:spPr>
          <a:xfrm>
            <a:off x="1619280" y="2365200"/>
            <a:ext cx="66196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1:24:10Z</dcterms:modified>
  <cp:revision>532</cp:revision>
  <dc:subject/>
  <dc:title>Diapositiva 1</dc:title>
</cp:coreProperties>
</file>